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6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5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4.jpeg" ContentType="image/jpeg"/>
  <Override PartName="/ppt/media/image7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3.jpeg" ContentType="image/jpeg"/>
  <Override PartName="/ppt/media/image6.jpeg" ContentType="image/jpeg"/>
  <Override PartName="/ppt/media/image32.png" ContentType="image/png"/>
  <Override PartName="/ppt/media/image44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20A-8645-4A59-B58B-881C27D1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7A9-A382-4403-BCE0-EA008F38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952-2C23-43BD-AF01-50E64716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BB0-E7F9-4BD5-94FF-B07E0AA6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359E-EF5A-4FB4-83C1-4C130A85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3672-6853-45B7-B885-E1021B97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0C1A-F571-4784-AD4B-B7D8AFE0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B55-D5AA-45F5-8D1A-CCBAC7B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87B-5B85-4915-9779-8FD113DA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548-D98D-4899-946D-1E40DE48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2F2-ACFC-4BC6-9EFC-E60B0DD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735-AEC1-4509-8B4C-D780679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8DD2-E2CC-4A0A-B412-59DB117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8546-7E71-44BD-8A3A-AEB984DB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AD08-8805-4C90-B34F-6B187ED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9CCD-00FB-41C4-9416-989E9A7E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047B-A85E-40F3-8F5A-5C313907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BE3-E939-4E45-8440-2BE3066F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2AB-FDD8-4F1E-858A-83FCCBE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065-409C-4F2D-86BD-B571C63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B06-29DC-47BA-8B92-1CFA039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27B-F075-4F19-93FC-132BFB7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AE1-927D-4074-8818-A3C772D3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6E2-14F8-42E3-B1A2-46E12E5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FEE-6CA2-4C7B-969E-3BD4797CD1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7632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18F0-85FA-4396-B4E0-BC699A4BDA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24.jpeg"/><Relationship Id="rId7" Type="http://schemas.openxmlformats.org/officeDocument/2006/relationships/image" Target="../media/image17.jpeg"/><Relationship Id="rId8" Type="http://schemas.openxmlformats.org/officeDocument/2006/relationships/image" Target="../media/image23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24.jpeg"/><Relationship Id="rId7" Type="http://schemas.openxmlformats.org/officeDocument/2006/relationships/image" Target="../media/image17.jpeg"/><Relationship Id="rId8" Type="http://schemas.openxmlformats.org/officeDocument/2006/relationships/image" Target="../media/image23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3.jpeg"/><Relationship Id="rId3" Type="http://schemas.openxmlformats.org/officeDocument/2006/relationships/image" Target="../media/image1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80643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Домашнее животное, которое дает людям молок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5472000" cy="415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КОР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844280"/>
            <a:ext cx="2878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ВАВЁ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4752720" cy="4038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0360" y="1844640"/>
            <a:ext cx="287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2230200" cy="8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МАЛ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5040360" cy="403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80000" y="1916280"/>
            <a:ext cx="30956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ОБЕЗЬЯ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201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66"/>
                </a:solidFill>
                <a:latin typeface="Times New Roman"/>
              </a:rPr>
              <a:t>ДЗ</a:t>
            </a: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333366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5256360" cy="409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00720" y="1773360"/>
            <a:ext cx="2373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КАБ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17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К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329080" cy="4000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77080" y="1773360"/>
            <a:ext cx="1798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К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23731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КА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472360" cy="4057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300720" y="1773360"/>
            <a:ext cx="2373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У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204948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БУС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773360"/>
            <a:ext cx="20858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АИ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42483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32000" y="1628280"/>
            <a:ext cx="30938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КРУМКА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763640" y="2492280"/>
            <a:ext cx="6191280" cy="402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24360" y="1628640"/>
            <a:ext cx="3094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ВОР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2409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ПЕВЕН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1773360"/>
            <a:ext cx="2590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ПЕТУ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27464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168912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ГУ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1628640"/>
            <a:ext cx="2014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ГУ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5040360" cy="402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628280"/>
            <a:ext cx="20145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ТР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66"/>
                </a:solidFill>
                <a:latin typeface="Arial"/>
              </a:rPr>
              <a:t>ПРОЧИТАЙТЕ БЕЛОРУССКИЕ СЛОВА, </a:t>
            </a:r>
            <a:br>
              <a:rPr sz="2400"/>
            </a:br>
            <a:r>
              <a:rPr b="0" lang="ru-RU" sz="2400" spc="-1" strike="noStrike">
                <a:solidFill>
                  <a:srgbClr val="333366"/>
                </a:solidFill>
                <a:latin typeface="Arial"/>
              </a:rPr>
              <a:t>ПЕРЕВЕДИТЕ ИХ НА РУССКИЙ ЯЗЫК С ПОМОЩЬЮ БЕЛОРУССКО-РУССКОГО СЛОВАРЯ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3003480" cy="424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732720" y="1628640"/>
            <a:ext cx="2014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1557360"/>
            <a:ext cx="758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3333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Место, где живет много людей, есть много улиц и площадей, заводов и фабрик</a:t>
            </a:r>
            <a:r>
              <a:rPr b="0" lang="en-US" sz="2800" spc="-1" strike="noStrike">
                <a:solidFill>
                  <a:srgbClr val="333366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580536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ГОР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4643280" cy="3119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42920" y="3527280"/>
            <a:ext cx="4681440" cy="3105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6920" y="2060640"/>
            <a:ext cx="8137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66"/>
                </a:solidFill>
                <a:latin typeface="Comic Sans MS"/>
              </a:rPr>
              <a:t>САМОСТОЯТЕЛЬНА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66"/>
                </a:solidFill>
                <a:latin typeface="Comic Sans MS"/>
              </a:rPr>
              <a:t>РАБО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79736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4724280"/>
            <a:ext cx="7632720" cy="127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Arial"/>
              </a:rPr>
              <a:t>ЗАПИШИТЕ РУССКИЕ СЛОВА В АЛФАВИТНОМ ПОРЯДКЕ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594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БЕЛКА, ОБЕЗЬЯНА, КАБАН, КОТ, УТКА, АИСТ, ВОРОН, ПЕТУХ, ГУСЬ,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1729080" cy="1379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676160" cy="1424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543800" y="2895480"/>
            <a:ext cx="1600200" cy="135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057400" y="28954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886200" y="2895480"/>
            <a:ext cx="1752480" cy="1363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715000" y="2895480"/>
            <a:ext cx="1752480" cy="131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7596360" y="4508640"/>
            <a:ext cx="109692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2362320" y="449568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4427640" y="4508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8149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Arial"/>
              </a:rPr>
              <a:t>ЗАПИШИТЕ РУССКИЕ СЛОВА В АЛФАВИТНОМ ПОРЯДКЕ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594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БЕЛКА, ОБЕЗЬЯНА, КАБАН, КОТ, УТКА, АИСТ, ВОРОН, ПЕТУХ, ГУСЬ,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1729080" cy="1379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676160" cy="1424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895480"/>
            <a:ext cx="1600200" cy="135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057400" y="28954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886200" y="2895480"/>
            <a:ext cx="1752480" cy="1363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5715000" y="2895480"/>
            <a:ext cx="1752480" cy="1316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7596360" y="4508640"/>
            <a:ext cx="1096920" cy="1368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2362320" y="449568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4427640" y="4508640"/>
            <a:ext cx="1152360" cy="1368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5997600"/>
            <a:ext cx="845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66"/>
                </a:solidFill>
                <a:latin typeface="Times New Roman"/>
              </a:rPr>
              <a:t>АИСТ, БЕЛКА, ВОРОН, ГУСЬ, ЗАЯЦ, КАБАН, КОТ, ОБЕЗЬЯНА, ПЕТУХ, У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4495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28954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495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45086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17080" y="45086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8954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28954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28954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450864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10480" y="289548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ПРОВЕРЬ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1844640"/>
            <a:ext cx="6912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АИ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ВО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ГУ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К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КАБ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К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К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ОБЕЗЬЯ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ПЕТУ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66"/>
                </a:solidFill>
                <a:latin typeface="Times New Roman"/>
              </a:rPr>
              <a:t>УТ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ЯВЛЯЕТСЯ ЛИ ТО, ЧТО ВЫ ПРОЧИТАЛИ, СЛОВАМ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ОСТОЯТ ЛИ ОНИ ИЗ ЗВУКОВ, БУКВ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ИМЕЮТ ЛИ ЗНАЧЕ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ПИШИТЕ СЛОВА, ЗНАЧЕНИЯ КОТОРЫХ ВЫ ЗН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ПРОЧИТАЙТЕ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187280" y="1700280"/>
            <a:ext cx="3593880" cy="866520"/>
            <a:chOff x="1187280" y="1700280"/>
            <a:chExt cx="3593880" cy="866520"/>
          </a:xfrm>
        </p:grpSpPr>
        <p:sp>
          <p:nvSpPr>
            <p:cNvPr id="213" name=""/>
            <p:cNvSpPr/>
            <p:nvPr/>
          </p:nvSpPr>
          <p:spPr>
            <a:xfrm>
              <a:off x="1187280" y="1700280"/>
              <a:ext cx="3593880" cy="866520"/>
            </a:xfrm>
            <a:custGeom>
              <a:avLst/>
              <a:gdLst>
                <a:gd name="textAreaLeft" fmla="*/ 898560 w 3593880"/>
                <a:gd name="textAreaRight" fmla="*/ 2695680 w 3593880"/>
                <a:gd name="textAreaTop" fmla="*/ 25560 h 866520"/>
                <a:gd name="textAreaBottom" fmla="*/ 65016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d4ebea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06360" y="1787040"/>
              <a:ext cx="1755360" cy="520560"/>
            </a:xfrm>
            <a:prstGeom prst="rect">
              <a:avLst/>
            </a:prstGeom>
            <a:solidFill>
              <a:srgbClr val="d4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БЕРЕЗ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111640" y="1700280"/>
            <a:ext cx="4032000" cy="883800"/>
            <a:chOff x="5111640" y="1700280"/>
            <a:chExt cx="4032000" cy="883800"/>
          </a:xfrm>
        </p:grpSpPr>
        <p:sp>
          <p:nvSpPr>
            <p:cNvPr id="216" name=""/>
            <p:cNvSpPr/>
            <p:nvPr/>
          </p:nvSpPr>
          <p:spPr>
            <a:xfrm>
              <a:off x="5111640" y="1700280"/>
              <a:ext cx="4032000" cy="883800"/>
            </a:xfrm>
            <a:custGeom>
              <a:avLst/>
              <a:gdLst>
                <a:gd name="textAreaLeft" fmla="*/ 1008000 w 4032000"/>
                <a:gd name="textAreaRight" fmla="*/ 3024000 w 4032000"/>
                <a:gd name="textAreaTop" fmla="*/ 25920 h 883800"/>
                <a:gd name="textAreaBottom" fmla="*/ 66312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d4ebea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9440" y="1788480"/>
              <a:ext cx="22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ИГРУШ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59280" y="2924280"/>
            <a:ext cx="3312720" cy="864720"/>
            <a:chOff x="3059280" y="2924280"/>
            <a:chExt cx="3312720" cy="864720"/>
          </a:xfrm>
        </p:grpSpPr>
        <p:sp>
          <p:nvSpPr>
            <p:cNvPr id="219" name=""/>
            <p:cNvSpPr/>
            <p:nvPr/>
          </p:nvSpPr>
          <p:spPr>
            <a:xfrm>
              <a:off x="3059280" y="2924280"/>
              <a:ext cx="3312720" cy="864720"/>
            </a:xfrm>
            <a:custGeom>
              <a:avLst/>
              <a:gdLst>
                <a:gd name="textAreaLeft" fmla="*/ 828000 w 3312720"/>
                <a:gd name="textAreaRight" fmla="*/ 2484720 w 3312720"/>
                <a:gd name="textAreaTop" fmla="*/ 25560 h 864720"/>
                <a:gd name="textAreaBottom" fmla="*/ 648720 h 86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d4ebea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06360" y="3010680"/>
              <a:ext cx="1617840" cy="520560"/>
            </a:xfrm>
            <a:prstGeom prst="rect">
              <a:avLst/>
            </a:prstGeom>
            <a:solidFill>
              <a:srgbClr val="d4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ПЕНЁ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64000" y="4149720"/>
            <a:ext cx="3384360" cy="863280"/>
            <a:chOff x="5364000" y="4149720"/>
            <a:chExt cx="3384360" cy="863280"/>
          </a:xfrm>
        </p:grpSpPr>
        <p:sp>
          <p:nvSpPr>
            <p:cNvPr id="222" name=""/>
            <p:cNvSpPr/>
            <p:nvPr/>
          </p:nvSpPr>
          <p:spPr>
            <a:xfrm>
              <a:off x="5364000" y="4149720"/>
              <a:ext cx="3384360" cy="863280"/>
            </a:xfrm>
            <a:custGeom>
              <a:avLst/>
              <a:gdLst>
                <a:gd name="textAreaLeft" fmla="*/ 846000 w 3384360"/>
                <a:gd name="textAreaRight" fmla="*/ 2538360 w 3384360"/>
                <a:gd name="textAreaTop" fmla="*/ 25560 h 863280"/>
                <a:gd name="textAreaBottom" fmla="*/ 647640 h 86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d4ebea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8280" y="4236120"/>
              <a:ext cx="1495080" cy="520560"/>
            </a:xfrm>
            <a:prstGeom prst="rect">
              <a:avLst/>
            </a:prstGeom>
            <a:solidFill>
              <a:srgbClr val="d4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БЕФИ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00000" y="4221000"/>
            <a:ext cx="3527280" cy="863280"/>
            <a:chOff x="900000" y="4221000"/>
            <a:chExt cx="3527280" cy="863280"/>
          </a:xfrm>
        </p:grpSpPr>
        <p:sp>
          <p:nvSpPr>
            <p:cNvPr id="225" name=""/>
            <p:cNvSpPr/>
            <p:nvPr/>
          </p:nvSpPr>
          <p:spPr>
            <a:xfrm>
              <a:off x="900000" y="4221000"/>
              <a:ext cx="3527280" cy="863280"/>
            </a:xfrm>
            <a:custGeom>
              <a:avLst/>
              <a:gdLst>
                <a:gd name="textAreaLeft" fmla="*/ 881640 w 3527280"/>
                <a:gd name="textAreaRight" fmla="*/ 2645640 w 3527280"/>
                <a:gd name="textAreaTop" fmla="*/ 25560 h 863280"/>
                <a:gd name="textAreaBottom" fmla="*/ 647640 h 86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d4ebea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4240" y="4307400"/>
              <a:ext cx="1558440" cy="520560"/>
            </a:xfrm>
            <a:prstGeom prst="rect">
              <a:avLst/>
            </a:prstGeom>
            <a:solidFill>
              <a:srgbClr val="d4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КЫ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5" dur="1" fill="hold"/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3313080" cy="2036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258920" y="1844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1557360"/>
            <a:ext cx="7343640" cy="1008000"/>
            <a:chOff x="1116000" y="1557360"/>
            <a:chExt cx="7343640" cy="1008000"/>
          </a:xfrm>
        </p:grpSpPr>
        <p:sp>
          <p:nvSpPr>
            <p:cNvPr id="231" name=""/>
            <p:cNvSpPr/>
            <p:nvPr/>
          </p:nvSpPr>
          <p:spPr>
            <a:xfrm>
              <a:off x="1116000" y="1557360"/>
              <a:ext cx="7343640" cy="1008000"/>
            </a:xfrm>
            <a:prstGeom prst="foldedCorner">
              <a:avLst>
                <a:gd name="adj" fmla="val 12500"/>
              </a:avLst>
            </a:pr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1700280"/>
              <a:ext cx="691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АЖДОЕ СЛОВО СОСТОИТ ИЗ ЗВУКОВ (И БУКВ) И ЧТО-ТО ОБОЗНАЧАЕТ, ИМЕЕТ ЗНАЧЕНИ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116000" y="2781360"/>
            <a:ext cx="7345440" cy="1008000"/>
            <a:chOff x="1116000" y="2781360"/>
            <a:chExt cx="7345440" cy="1008000"/>
          </a:xfrm>
        </p:grpSpPr>
        <p:sp>
          <p:nvSpPr>
            <p:cNvPr id="234" name=""/>
            <p:cNvSpPr/>
            <p:nvPr/>
          </p:nvSpPr>
          <p:spPr>
            <a:xfrm>
              <a:off x="1116000" y="2781360"/>
              <a:ext cx="7345440" cy="1008000"/>
            </a:xfrm>
            <a:prstGeom prst="foldedCorner">
              <a:avLst>
                <a:gd name="adj" fmla="val 12500"/>
              </a:avLst>
            </a:pr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87280" y="2852640"/>
              <a:ext cx="705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СЛОВА СЛУЖАТ ДЛЯ НАЗВАНИЯ ПРЕДМЕТОВ, ИХ ПРИЗНАКОВ, ДЕЙСТВИЙ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5280" y="3933720"/>
            <a:ext cx="2448000" cy="1081080"/>
            <a:chOff x="395280" y="3933720"/>
            <a:chExt cx="2448000" cy="1081080"/>
          </a:xfrm>
        </p:grpSpPr>
        <p:sp>
          <p:nvSpPr>
            <p:cNvPr id="237" name=""/>
            <p:cNvSpPr/>
            <p:nvPr/>
          </p:nvSpPr>
          <p:spPr>
            <a:xfrm>
              <a:off x="395280" y="3933720"/>
              <a:ext cx="2448000" cy="1081080"/>
            </a:xfrm>
            <a:custGeom>
              <a:avLst/>
              <a:gdLst>
                <a:gd name="textAreaLeft" fmla="*/ 306000 w 2448000"/>
                <a:gd name="textAreaRight" fmla="*/ 2142000 w 2448000"/>
                <a:gd name="textAreaTop" fmla="*/ 270360 h 1081080"/>
                <a:gd name="textAreaBottom" fmla="*/ 811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200" y="429408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ПРЕДМ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26920" y="4869000"/>
            <a:ext cx="2448000" cy="1081080"/>
            <a:chOff x="826920" y="4869000"/>
            <a:chExt cx="2448000" cy="1081080"/>
          </a:xfrm>
        </p:grpSpPr>
        <p:sp>
          <p:nvSpPr>
            <p:cNvPr id="240" name=""/>
            <p:cNvSpPr/>
            <p:nvPr/>
          </p:nvSpPr>
          <p:spPr>
            <a:xfrm>
              <a:off x="826920" y="4869000"/>
              <a:ext cx="2448000" cy="1081080"/>
            </a:xfrm>
            <a:custGeom>
              <a:avLst/>
              <a:gdLst>
                <a:gd name="textAreaLeft" fmla="*/ 306000 w 2448000"/>
                <a:gd name="textAreaRight" fmla="*/ 2142000 w 2448000"/>
                <a:gd name="textAreaTop" fmla="*/ 270360 h 1081080"/>
                <a:gd name="textAreaBottom" fmla="*/ 811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30200" y="5229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ПРИЗНА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619280" y="5776920"/>
            <a:ext cx="2448000" cy="1081080"/>
            <a:chOff x="1619280" y="5776920"/>
            <a:chExt cx="2448000" cy="1081080"/>
          </a:xfrm>
        </p:grpSpPr>
        <p:sp>
          <p:nvSpPr>
            <p:cNvPr id="243" name=""/>
            <p:cNvSpPr/>
            <p:nvPr/>
          </p:nvSpPr>
          <p:spPr>
            <a:xfrm>
              <a:off x="1619280" y="5776920"/>
              <a:ext cx="2448000" cy="1081080"/>
            </a:xfrm>
            <a:custGeom>
              <a:avLst/>
              <a:gdLst>
                <a:gd name="textAreaLeft" fmla="*/ 306000 w 2448000"/>
                <a:gd name="textAreaRight" fmla="*/ 2142000 w 2448000"/>
                <a:gd name="textAreaTop" fmla="*/ 270360 h 1081080"/>
                <a:gd name="textAreaBottom" fmla="*/ 811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6165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ДЕЙСТВ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059280" y="422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Times New Roman"/>
              </a:rPr>
              <a:t>МА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013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Times New Roman"/>
              </a:rPr>
              <a:t>КРАС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5877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Times New Roman"/>
              </a:rPr>
              <a:t>ЕД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ФИЗКУЛЬТМИНУТКА</a:t>
            </a:r>
            <a:endParaRPr b="0" lang="en-US" sz="60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2521080" cy="2736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2454120" cy="2664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82325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ПРОЧИТАЙТЕ СЛОВА И </a:t>
            </a:r>
            <a:br>
              <a:rPr sz="2800"/>
            </a:b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ИХ ТОЛКОВАНИЕ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5229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0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БЕРЁЗА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– лиственное дерево с белой ко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05360" cy="43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ПРОЧИТАЙТЕ СЛОВА И </a:t>
            </a:r>
            <a:br>
              <a:rPr sz="2800"/>
            </a:b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ИХ ТОЛКОВАНИЕ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05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56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ОС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1. часть лиц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6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2. передняя часть судна, 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самол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959280" cy="2625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04000" y="3213000"/>
            <a:ext cx="22114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ПРОЧИТАЙТЕ СЛОВА И </a:t>
            </a:r>
            <a:br>
              <a:rPr sz="2800"/>
            </a:br>
            <a:r>
              <a:rPr b="0" lang="ru-RU" sz="2800" spc="-1" strike="noStrike">
                <a:solidFill>
                  <a:srgbClr val="333366"/>
                </a:solidFill>
                <a:latin typeface="Arial"/>
              </a:rPr>
              <a:t>ИХ ТОЛКОВАНИЕ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0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БЕРЁЗА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– лиственное дерево с белой ко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ОС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1. часть лиц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2. передняя часть судна, самол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66920" y="3716280"/>
            <a:ext cx="7381800" cy="1541520"/>
          </a:xfrm>
          <a:prstGeom prst="rect">
            <a:avLst/>
          </a:prstGeom>
          <a:solidFill>
            <a:srgbClr val="d4ebea"/>
          </a:solidFill>
          <a:ln w="0">
            <a:noFill/>
          </a:ln>
          <a:effectLst>
            <a:outerShdw dist="107932" dir="13500000" blurRad="0" rotWithShape="0">
              <a:srgbClr val="33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2500"/>
              </a:spcBef>
              <a:buClr>
                <a:srgbClr val="333366"/>
              </a:buClr>
              <a:buSzPct val="20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КОЛЬКО ЗНАЧЕНИЙ У ПЕРВОГО, ВТОРОГО СЛО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16286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33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Первый месяц ос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59436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СЕНТЯБ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822560" cy="317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3527280"/>
            <a:ext cx="4680000" cy="3119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356000" y="3429000"/>
            <a:ext cx="2190960" cy="2519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5290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1187280" y="1700280"/>
            <a:ext cx="7344000" cy="1295280"/>
            <a:chOff x="1187280" y="1700280"/>
            <a:chExt cx="7344000" cy="1295280"/>
          </a:xfrm>
        </p:grpSpPr>
        <p:sp>
          <p:nvSpPr>
            <p:cNvPr id="267" name=""/>
            <p:cNvSpPr/>
            <p:nvPr/>
          </p:nvSpPr>
          <p:spPr>
            <a:xfrm>
              <a:off x="1187280" y="1700280"/>
              <a:ext cx="7344000" cy="1295280"/>
            </a:xfrm>
            <a:prstGeom prst="foldedCorner">
              <a:avLst>
                <a:gd name="adj" fmla="val 12500"/>
              </a:avLst>
            </a:pr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5080" y="1771560"/>
              <a:ext cx="691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В РУССКОМ ЯЗЫКЕ ЕСТЬ СЛОВА, КОТОРЫЕ ИМЕЮТ ОДНО ЗНАЧЕНИЕ, НАПРИМЕР, МЕДВЕДЬ, РОЗА, ЛЯГУШК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588000" y="3429000"/>
            <a:ext cx="226548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050920" y="537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1387440" cy="1981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403280" y="3284640"/>
            <a:ext cx="2879640" cy="191772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1187280" y="1700280"/>
            <a:ext cx="7417080" cy="1439640"/>
            <a:chOff x="1187280" y="1700280"/>
            <a:chExt cx="7417080" cy="1439640"/>
          </a:xfrm>
        </p:grpSpPr>
        <p:sp>
          <p:nvSpPr>
            <p:cNvPr id="276" name=""/>
            <p:cNvSpPr/>
            <p:nvPr/>
          </p:nvSpPr>
          <p:spPr>
            <a:xfrm>
              <a:off x="1187280" y="1700280"/>
              <a:ext cx="7344000" cy="1439640"/>
            </a:xfrm>
            <a:prstGeom prst="foldedCorner">
              <a:avLst>
                <a:gd name="adj" fmla="val 12500"/>
              </a:avLst>
            </a:prstGeom>
            <a:solidFill>
              <a:srgbClr val="d4ebea"/>
            </a:solidFill>
            <a:ln w="0">
              <a:noFill/>
            </a:ln>
            <a:effectLst>
              <a:outerShdw dist="107932" dir="13500000" blurRad="0" rotWithShape="0">
                <a:srgbClr val="33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76360" y="1844640"/>
              <a:ext cx="712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ЕСТЬ СЛОВА С НЕСКОЛЬКИМИ ЗНАЧЕНИЯМИ – МНОГОЗНАЧНЫЕ СЛОВА, НАПРИМЕР, КЛЮЧ, ХВОСТ, КРЫЛО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5292720" y="3284640"/>
            <a:ext cx="284328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Arial"/>
              </a:rPr>
              <a:t>КАКИЕ ЗНАЧЕНИЯ ЕСТЬ У СЛОВА РУЧКА?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521080" cy="162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403280" y="4869000"/>
            <a:ext cx="7381800" cy="1541520"/>
          </a:xfrm>
          <a:prstGeom prst="rect">
            <a:avLst/>
          </a:prstGeom>
          <a:solidFill>
            <a:srgbClr val="d4ebea"/>
          </a:solidFill>
          <a:ln w="0">
            <a:noFill/>
          </a:ln>
          <a:effectLst>
            <a:outerShdw dist="107932" dir="13500000" blurRad="0" rotWithShape="0">
              <a:srgbClr val="33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2500"/>
              </a:spcBef>
              <a:buClr>
                <a:srgbClr val="333366"/>
              </a:buClr>
              <a:buSzPct val="20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ОСТАВЬТЕ ТРИ ПРЕДЛОЖЕНИЯ С РАЗНЫМИ ЗНАЧЕНИЯМИ ЭТОГО СЛОВА.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(Two sets of doors)"/>
          <p:cNvPicPr/>
          <p:nvPr/>
        </p:nvPicPr>
        <p:blipFill>
          <a:blip r:embed="rId4"/>
          <a:stretch/>
        </p:blipFill>
        <p:spPr>
          <a:xfrm>
            <a:off x="6877080" y="1773360"/>
            <a:ext cx="18572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Arial"/>
              </a:rPr>
              <a:t>ЧТОБЫ ВЫ НАРИСОВАЛИ ДЛЯ ТОГО, ЧТОБЫ ПОКАЗАТЬ РАЗНЫЕ ЗНАЧЕНИЯ СЛОВ: КРЫЛО, НОЖКА, КОСА, ХВОСТ?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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66"/>
                </a:solidFill>
                <a:latin typeface="Times New Roman"/>
              </a:rPr>
              <a:t>Составьте словосочетания с этими словами и запишите их по образц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КРЫЛО ПТИЦЫ – КРЫЛО САМОЛ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-62532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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66"/>
                </a:solidFill>
                <a:latin typeface="Times New Roman"/>
              </a:rPr>
              <a:t>Придумайте многозначное слово. Составьте два предложения с разными значениями этого сл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26920" y="2708280"/>
            <a:ext cx="8137800" cy="19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397473">
                      <a:alpha val="50000"/>
                    </a:srgbClr>
                  </a:outerShdw>
                </a:effectLst>
                <a:latin typeface="Book Antiqua"/>
              </a:rPr>
              <a:t>МОЛОДЦЫ !</a:t>
            </a:r>
            <a:endParaRPr b="1" lang="en-US" sz="2400" spc="1" strike="noStrike">
              <a:ln w="9360">
                <a:solidFill>
                  <a:srgbClr val="3333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397473">
                    <a:alpha val="5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187280" y="5516640"/>
            <a:ext cx="7632720" cy="127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58920" y="558972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6" dur="3328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979640" y="364500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66"/>
                  </a:solidFill>
                  <a:miter/>
                </a:ln>
                <a:solidFill>
                  <a:srgbClr val="333366"/>
                </a:solidFill>
                <a:effectLst>
                  <a:outerShdw dist="153753" dir="2700000" blurRad="0" rotWithShape="0">
                    <a:srgbClr val="99cccc">
                      <a:alpha val="50000"/>
                    </a:srgbClr>
                  </a:outerShdw>
                </a:effectLst>
                <a:latin typeface="Times New Roman"/>
              </a:rPr>
              <a:t>по теме:</a:t>
            </a:r>
            <a:endParaRPr b="0" lang="en-US" sz="2400" spc="1" strike="noStrike">
              <a:ln w="9360">
                <a:solidFill>
                  <a:srgbClr val="333366"/>
                </a:solidFill>
                <a:miter/>
              </a:ln>
              <a:solidFill>
                <a:srgbClr val="333366"/>
              </a:solidFill>
              <a:effectLst>
                <a:outerShdw dist="153753" dir="2700000" blurRad="0" rotWithShape="0">
                  <a:srgbClr val="99cccc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66"/>
                  </a:solidFill>
                  <a:miter/>
                </a:ln>
                <a:solidFill>
                  <a:srgbClr val="333366"/>
                </a:solidFill>
                <a:effectLst>
                  <a:outerShdw dist="153753" dir="2700000" blurRad="0" rotWithShape="0">
                    <a:srgbClr val="99cccc">
                      <a:alpha val="50000"/>
                    </a:srgbClr>
                  </a:outerShdw>
                </a:effectLst>
                <a:latin typeface="Times New Roman"/>
              </a:rPr>
              <a:t>Значение слов. </a:t>
            </a:r>
            <a:endParaRPr b="0" lang="en-US" sz="2400" spc="1" strike="noStrike">
              <a:ln w="9360">
                <a:solidFill>
                  <a:srgbClr val="333366"/>
                </a:solidFill>
                <a:miter/>
              </a:ln>
              <a:solidFill>
                <a:srgbClr val="333366"/>
              </a:solidFill>
              <a:effectLst>
                <a:outerShdw dist="153753" dir="2700000" blurRad="0" rotWithShape="0">
                  <a:srgbClr val="99cccc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66"/>
                  </a:solidFill>
                  <a:miter/>
                </a:ln>
                <a:solidFill>
                  <a:srgbClr val="333366"/>
                </a:solidFill>
                <a:effectLst>
                  <a:outerShdw dist="153753" dir="2700000" blurRad="0" rotWithShape="0">
                    <a:srgbClr val="99cccc">
                      <a:alpha val="50000"/>
                    </a:srgbClr>
                  </a:outerShdw>
                </a:effectLst>
                <a:latin typeface="Times New Roman"/>
              </a:rPr>
              <a:t>Многозначные слова.</a:t>
            </a:r>
            <a:endParaRPr b="0" lang="en-US" sz="2400" spc="1" strike="noStrike">
              <a:ln w="9360">
                <a:solidFill>
                  <a:srgbClr val="333366"/>
                </a:solidFill>
                <a:miter/>
              </a:ln>
              <a:solidFill>
                <a:srgbClr val="333366"/>
              </a:solidFill>
              <a:effectLst>
                <a:outerShdw dist="153753" dir="2700000" blurRad="0" rotWithShape="0">
                  <a:srgbClr val="99cccc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985320"/>
            <a:ext cx="74232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66"/>
                </a:solidFill>
                <a:latin typeface="Comic Sans MS"/>
              </a:rPr>
              <a:t>Урок русского </a:t>
            </a:r>
            <a:br>
              <a:rPr sz="6600"/>
            </a:br>
            <a:r>
              <a:rPr b="1" lang="en-US" sz="6600" spc="-1" strike="noStrike">
                <a:solidFill>
                  <a:srgbClr val="333366"/>
                </a:solidFill>
                <a:latin typeface="Comic Sans MS"/>
              </a:rPr>
              <a:t>языка в 1 классе</a:t>
            </a:r>
            <a:endParaRPr b="0" lang="en-US" sz="6600" spc="-1" strike="noStrike">
              <a:solidFill>
                <a:srgbClr val="33336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1628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3333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Птица, у которой по бокам перышки белые, а крылья и хвост черные</a:t>
            </a:r>
            <a:r>
              <a:rPr b="0" lang="en-US" sz="2800" spc="-1" strike="noStrike">
                <a:solidFill>
                  <a:srgbClr val="333366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592600" cy="3863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88000" y="601992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СО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66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Детский коллектив в школе, объединенный общими интерес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563920"/>
            <a:ext cx="5688000" cy="404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16600" y="5805360"/>
            <a:ext cx="23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333366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Домашнее животное, которое сторожит д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241128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88000" y="587700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СЛОВАРНАЯ РАБОТА.</a:t>
            </a:r>
            <a:br>
              <a:rPr sz="40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азовите одним словом. Запишите слова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2266920"/>
            <a:ext cx="4753080" cy="428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24000" y="4221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66"/>
                </a:solidFill>
                <a:latin typeface="Times New Roman"/>
              </a:rPr>
              <a:t>магаз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1700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33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 New Roman"/>
              </a:rPr>
              <a:t>Здание, в котором можно сделать покуп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566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МАГАЗ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СУМКА, В КОТОРОЙ ХРАНЯТСЯ ШКОЛЬНЫЕ ПРИНАДЛЕЖНОСТИ.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10364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3640" y="486900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ПОРТФ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66"/>
                </a:solidFill>
                <a:latin typeface="Arial"/>
              </a:rPr>
              <a:t>В КАКИХ КНИГАХ МОЖНО УЗНАТЬ ЗНАЧЕНИЕ СЛОВ, ПРОВЕРИТЬ ИХ НАПИСАНИЕ И ПРОИЗНОШЕНИЕ?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3311280" cy="257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4653000"/>
            <a:ext cx="54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ЭТО СЛОВ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ОРФОГРАФИЧЕСКИЕ, ТОЛКОВЫ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ПЕРЕВОД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8:16:48Z</dcterms:created>
  <dc:creator>527_10</dc:creator>
  <dc:description/>
  <dc:language>en-US</dc:language>
  <cp:lastModifiedBy>Алла</cp:lastModifiedBy>
  <dcterms:modified xsi:type="dcterms:W3CDTF">2005-12-18T15:14:54Z</dcterms:modified>
  <cp:revision>55</cp:revision>
  <dc:subject/>
  <dc:title>Презентация PowerPoint</dc:title>
</cp:coreProperties>
</file>